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1.jpeg" ContentType="image/jpeg"/>
  <Override PartName="/ppt/media/image6.jpeg" ContentType="image/jpeg"/>
  <Override PartName="/ppt/media/image5.wmf" ContentType="image/x-wmf"/>
  <Override PartName="/ppt/media/image10.wmf" ContentType="image/x-wmf"/>
  <Override PartName="/ppt/media/image4.jpeg" ContentType="image/jpeg"/>
  <Override PartName="/ppt/media/image3.jpeg" ContentType="image/jpeg"/>
  <Override PartName="/ppt/media/image26.wmf" ContentType="image/x-wmf"/>
  <Override PartName="/ppt/media/image24.png" ContentType="image/png"/>
  <Override PartName="/ppt/media/image22.png" ContentType="image/png"/>
  <Override PartName="/ppt/media/image21.png" ContentType="image/png"/>
  <Override PartName="/ppt/media/image20.gif" ContentType="image/gif"/>
  <Override PartName="/ppt/media/image23.png" ContentType="image/png"/>
  <Override PartName="/ppt/media/image19.wmf" ContentType="image/x-wmf"/>
  <Override PartName="/ppt/media/image18.png" ContentType="image/png"/>
  <Override PartName="/ppt/media/image16.wmf" ContentType="image/x-wmf"/>
  <Override PartName="/ppt/media/image14.png" ContentType="image/png"/>
  <Override PartName="/ppt/media/image2.jpeg" ContentType="image/jpeg"/>
  <Override PartName="/ppt/media/image25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6B2B-E053-43C3-AA26-CF92FC5D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29AB-FD4B-4088-96A6-C8E1E286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C69F-F4C6-4DAA-8915-0818D446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0737-E378-4D19-AA6D-37DFBA0B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155D-A1C1-4AC7-98B9-19F01CB7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C793-8378-4A47-845D-3CB7BDBF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7212-3BE4-43B0-AE05-405425FA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4FA2-A61F-4088-B3B1-33A23D59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C156-4B43-4D6A-AE12-9BE3CAA9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E11D-6557-40E0-8F28-F24F6F90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C929-C7D6-48FD-9A2D-D5A880F6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829D-009C-478A-9B19-0BF2FD32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ADB6-707D-4A35-BA57-DBBF1477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356C-A95E-406B-B9F9-885BEC7B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DDC6-74E2-4BF3-BB69-A4E21FB2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7688-914A-4C29-92A6-53DB78A3A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CA7F-AF71-4980-B5F2-E0D11CC8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7D0A-69D0-41E7-B5CB-513C82A2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8A88-F656-4D2A-AF67-2ECC313D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FA2D-831A-45E5-AE75-9555D06A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56A1-C241-4CA0-B88A-D349E872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1DB2-129A-4B1A-9CF1-FAFC9B2F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7977-ADBA-47F1-99B3-FC37BA3F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A6DD-D0A1-4467-981C-F9EE7598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E463-C640-4C4D-A401-1FA569BB2DE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611C-45C7-46AA-BDD8-459FAB44B6E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hyperlink" Target="http://bioactive.mrkirkscience.com/02/ch2c4.html" TargetMode="External"/><Relationship Id="rId5" Type="http://schemas.openxmlformats.org/officeDocument/2006/relationships/hyperlink" Target="http://bioactive.mrkirkscience.com/02/ch2quiz.html" TargetMode="Externa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3NzgPNpQkno" TargetMode="External"/><Relationship Id="rId2" Type="http://schemas.openxmlformats.org/officeDocument/2006/relationships/hyperlink" Target="http://www.youtube.com/watch?v=3NzgPNpQkno" TargetMode="External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image" Target="../media/image19.wm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20.gi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6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NBzyM6TcK8&amp;feature=related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llustrationsof.com/royalty-free-scientist-clipart-illustration-11363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1.bp.blogspot.com/_pZiQ7CGinlM/S_DcpKTewaI/AAAAAAAAB8M/APuiz9Z4b-Q/s1600/Structure_of_Water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qjcCvzWwww&amp;NR=1" TargetMode="External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olecular Compounds &amp; Intermolecular For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resented b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Jennifer Ferrari &amp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etya Pis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sson 2: van der Waals for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nd map of types of bonds to be discussed with whole cla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5144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) Jigsaw activity for readings pgs. 109 – 112 in tex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) Computer Research for further and current knowledg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) Presentations to cla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4" descr="C:\Documents and Settings\pisanpet\Local Settings\Temporary Internet Files\Content.IE5\GBNYJVLT\MC900200263[1].wmf"/>
          <p:cNvPicPr/>
          <p:nvPr/>
        </p:nvPicPr>
        <p:blipFill>
          <a:blip r:embed="rId1"/>
          <a:stretch/>
        </p:blipFill>
        <p:spPr>
          <a:xfrm>
            <a:off x="5435640" y="2852640"/>
            <a:ext cx="1819080" cy="792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C:\Documents and Settings\pisanpet\Local Settings\Temporary Internet Files\Content.IE5\GBNYJVLT\MC900441728[1].png"/>
          <p:cNvPicPr/>
          <p:nvPr/>
        </p:nvPicPr>
        <p:blipFill>
          <a:blip r:embed="rId2"/>
          <a:stretch/>
        </p:blipFill>
        <p:spPr>
          <a:xfrm>
            <a:off x="3132000" y="3573360"/>
            <a:ext cx="1555920" cy="1584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C:\Program Files\Microsoft Office\MEDIA\CAGCAT10\j0285750.wmf"/>
          <p:cNvPicPr/>
          <p:nvPr/>
        </p:nvPicPr>
        <p:blipFill>
          <a:blip r:embed="rId3"/>
          <a:stretch/>
        </p:blipFill>
        <p:spPr>
          <a:xfrm>
            <a:off x="7667640" y="5157720"/>
            <a:ext cx="129708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sson 3: Hydrogen Bonding in everyday lif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4000" y="2421000"/>
            <a:ext cx="812628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Teacher Demonst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LID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LIQUID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GAS vap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4" descr="C:\Documents and Settings\pisanpet\Local Settings\Temporary Internet Files\Content.IE5\P9OV6DIH\MP900446767[1].jpg"/>
          <p:cNvPicPr/>
          <p:nvPr/>
        </p:nvPicPr>
        <p:blipFill>
          <a:blip r:embed="rId1"/>
          <a:stretch/>
        </p:blipFill>
        <p:spPr>
          <a:xfrm>
            <a:off x="971640" y="3357720"/>
            <a:ext cx="1419120" cy="1223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:\Documents and Settings\pisanpet\Local Settings\Temporary Internet Files\Content.IE5\P9OV6DIH\MC900441750[1].png"/>
          <p:cNvPicPr/>
          <p:nvPr/>
        </p:nvPicPr>
        <p:blipFill>
          <a:blip r:embed="rId2"/>
          <a:stretch/>
        </p:blipFill>
        <p:spPr>
          <a:xfrm>
            <a:off x="3492360" y="3357720"/>
            <a:ext cx="1511280" cy="1442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C:\Documents and Settings\pisanpet\Local Settings\Temporary Internet Files\Content.IE5\GBNYJVLT\MC900196458[1].wmf"/>
          <p:cNvPicPr/>
          <p:nvPr/>
        </p:nvPicPr>
        <p:blipFill>
          <a:blip r:embed="rId3"/>
          <a:stretch/>
        </p:blipFill>
        <p:spPr>
          <a:xfrm>
            <a:off x="6516720" y="3429000"/>
            <a:ext cx="1817640" cy="10796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684360" y="4869000"/>
            <a:ext cx="8126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lease view the Animation on hydrogen bonding to show you the science behind the teacher demonstration: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http://bioactive.mrkirkscience.com/02/ch2c4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755640" y="5850000"/>
            <a:ext cx="7981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Students are to do the Tutorial Quiz for evaluation purposes: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http://bioactive.mrkirkscience.com/02/ch2quiz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RY THE QUIZ OUT TO SEE IF YOU CAN BEAT YOUR STUDENTS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2484360" y="3645000"/>
            <a:ext cx="1008720" cy="216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arrow" w="med"/>
          </a:ln>
        </p:spPr>
      </p:cxnSp>
      <p:cxnSp>
        <p:nvCxnSpPr>
          <p:cNvPr id="137" name="Straight Arrow Connector 13"/>
          <p:cNvCxnSpPr/>
          <p:nvPr/>
        </p:nvCxnSpPr>
        <p:spPr>
          <a:xfrm>
            <a:off x="5219640" y="3645000"/>
            <a:ext cx="1008720" cy="216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arrow" w="med"/>
          </a:ln>
        </p:spPr>
      </p:cxnSp>
      <p:sp>
        <p:nvSpPr>
          <p:cNvPr id="138" name="TextBox 14"/>
          <p:cNvSpPr/>
          <p:nvPr/>
        </p:nvSpPr>
        <p:spPr>
          <a:xfrm>
            <a:off x="2411280" y="3860640"/>
            <a:ext cx="15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scussion of inter molecular bonds during this convers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TextBox 15"/>
          <p:cNvSpPr/>
          <p:nvPr/>
        </p:nvSpPr>
        <p:spPr>
          <a:xfrm>
            <a:off x="4859280" y="3933720"/>
            <a:ext cx="172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scussion of inter molecular bonds during this convers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sson 4 –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Mystery Scene Investigation: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Exploratory Lab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Show clip of CSI to engage the students and prepare them for the la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youtube.com/watch?v=3NzgPNpQkn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Picture 4" descr="C:\Documents and Settings\pisanpet\Local Settings\Temporary Internet Files\Content.IE5\P9OV6DIH\MC900431629[1].png"/>
          <p:cNvPicPr/>
          <p:nvPr/>
        </p:nvPicPr>
        <p:blipFill>
          <a:blip r:embed="rId3"/>
          <a:stretch/>
        </p:blipFill>
        <p:spPr>
          <a:xfrm>
            <a:off x="7429680" y="189000"/>
            <a:ext cx="1714320" cy="1714320"/>
          </a:xfrm>
          <a:prstGeom prst="rect">
            <a:avLst/>
          </a:prstGeom>
          <a:ln w="0">
            <a:noFill/>
          </a:ln>
        </p:spPr>
      </p:pic>
      <p:sp>
        <p:nvSpPr>
          <p:cNvPr id="143" name="TextBox 6"/>
          <p:cNvSpPr/>
          <p:nvPr/>
        </p:nvSpPr>
        <p:spPr>
          <a:xfrm>
            <a:off x="755640" y="3141720"/>
            <a:ext cx="828036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tudents divided in to groups of 2 or 3 and given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unknown powders and liquid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of which will be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Powders: salt, sugar, baking soda,  liquids: oil, water, vinegar, salad dressing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URPOSE of Exploratory Lab Investigation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Students are to design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ep by Step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cedure for determining the type of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ntermolecular bonding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at exists in the unknown substances found at a crime scene at a party they had recently attended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ey will need to test for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olubili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elting point and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oiling poin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6" descr="C:\Documents and Settings\pisanpet\Local Settings\Temporary Internet Files\Content.IE5\GBNYJVLT\MC900054757[1].wmf"/>
          <p:cNvPicPr/>
          <p:nvPr/>
        </p:nvPicPr>
        <p:blipFill>
          <a:blip r:embed="rId4"/>
          <a:stretch/>
        </p:blipFill>
        <p:spPr>
          <a:xfrm>
            <a:off x="7451640" y="522936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826920" y="6504120"/>
            <a:ext cx="83170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acher to ask questions relating to results after the lab is completed 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748080" y="900360"/>
            <a:ext cx="8081280" cy="88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sson 5 :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ass Debate over which Intermolecular force is most used in daily life </a:t>
            </a:r>
            <a:br>
              <a:rPr sz="28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(see summary handout for details)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55280" y="2204640"/>
            <a:ext cx="352908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Van der Wa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Picture 6" descr="C:\Documents and Settings\pisanpet\Local Settings\Temporary Internet Files\Content.IE5\WS8AY8H6\MC900089128[1].wmf"/>
          <p:cNvPicPr/>
          <p:nvPr/>
        </p:nvPicPr>
        <p:blipFill>
          <a:blip r:embed="rId1"/>
          <a:stretch/>
        </p:blipFill>
        <p:spPr>
          <a:xfrm>
            <a:off x="3708360" y="1557360"/>
            <a:ext cx="1368360" cy="1224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5435640" y="2205000"/>
            <a:ext cx="3457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Hydrogen Bon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2627280" y="2781360"/>
            <a:ext cx="39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) Introduce Rules of conduc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1258920" y="3141720"/>
            <a:ext cx="74898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2) Discuss necessary theories and                    to be deb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1258920" y="3573360"/>
            <a:ext cx="78850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)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ivide the class into group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Van der walls forces group: London Dispersion forces &amp; Dipole-dipole force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ydrogen bonding group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udience (no more than 5) 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Judges (3) 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ebate organizer (1)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Only           person talks at a time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ebate opens with 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</a:rPr>
              <a:t>Debate Organizer 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ollowed by 3 Judg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863640" y="5877000"/>
            <a:ext cx="82803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nner is the group that accumulates the most points given by teacher in the checklist at the beginning of the unit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Picture 7" descr="C:\Documents and Settings\pisanpet\Local Settings\Temporary Internet Files\Content.IE5\P9OV6DIH\MC900199250[1].wmf"/>
          <p:cNvPicPr/>
          <p:nvPr/>
        </p:nvPicPr>
        <p:blipFill>
          <a:blip r:embed="rId2"/>
          <a:stretch/>
        </p:blipFill>
        <p:spPr>
          <a:xfrm>
            <a:off x="0" y="5342040"/>
            <a:ext cx="1027080" cy="1515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Documents and Settings\pisanpet\Local Settings\Temporary Internet Files\Content.IE5\GBNYJVLT\MC900434726[1].png"/>
          <p:cNvPicPr/>
          <p:nvPr/>
        </p:nvPicPr>
        <p:blipFill>
          <a:blip r:embed="rId3"/>
          <a:stretch/>
        </p:blipFill>
        <p:spPr>
          <a:xfrm>
            <a:off x="3851280" y="4869000"/>
            <a:ext cx="865080" cy="504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Documents and Settings\pisanpet\Local Settings\Temporary Internet Files\Content.IE5\P9OV6DIH\MC900199251[1].wmf"/>
          <p:cNvPicPr/>
          <p:nvPr/>
        </p:nvPicPr>
        <p:blipFill>
          <a:blip r:embed="rId4"/>
          <a:stretch/>
        </p:blipFill>
        <p:spPr>
          <a:xfrm>
            <a:off x="8101080" y="5300640"/>
            <a:ext cx="792000" cy="449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C:\Documents and Settings\pisanpet\Local Settings\Temporary Internet Files\Content.IE5\P9OV6DIH\MC900199251[1].wmf"/>
          <p:cNvPicPr/>
          <p:nvPr/>
        </p:nvPicPr>
        <p:blipFill>
          <a:blip r:embed="rId5"/>
          <a:stretch/>
        </p:blipFill>
        <p:spPr>
          <a:xfrm>
            <a:off x="7956720" y="4797360"/>
            <a:ext cx="792000" cy="520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C:\Documents and Settings\pisanpet\Local Settings\Temporary Internet Files\Content.IE5\P9OV6DIH\MC900199251[1].wmf"/>
          <p:cNvPicPr/>
          <p:nvPr/>
        </p:nvPicPr>
        <p:blipFill>
          <a:blip r:embed="rId6"/>
          <a:stretch/>
        </p:blipFill>
        <p:spPr>
          <a:xfrm>
            <a:off x="7093080" y="4724280"/>
            <a:ext cx="792000" cy="594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C:\Documents and Settings\pisanpet\Local Settings\Temporary Internet Files\Content.IE5\P9OV6DIH\MM900254500[1].gif"/>
          <p:cNvPicPr/>
          <p:nvPr/>
        </p:nvPicPr>
        <p:blipFill>
          <a:blip r:embed="rId7"/>
          <a:stretch/>
        </p:blipFill>
        <p:spPr>
          <a:xfrm>
            <a:off x="5651640" y="3068640"/>
            <a:ext cx="44928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pplemental Visuals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38080" y="2362320"/>
            <a:ext cx="380520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Picture 12" descr="151ionic"/>
          <p:cNvPicPr/>
          <p:nvPr/>
        </p:nvPicPr>
        <p:blipFill>
          <a:blip r:embed="rId1"/>
          <a:stretch/>
        </p:blipFill>
        <p:spPr>
          <a:xfrm>
            <a:off x="1187280" y="2421000"/>
            <a:ext cx="3238560" cy="3647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160dipole"/>
          <p:cNvPicPr/>
          <p:nvPr/>
        </p:nvPicPr>
        <p:blipFill>
          <a:blip r:embed="rId2"/>
          <a:stretch/>
        </p:blipFill>
        <p:spPr>
          <a:xfrm>
            <a:off x="4788000" y="2421000"/>
            <a:ext cx="3771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pplemental Visuals cont’d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8" name="Picture 8" descr="160hbondwater"/>
          <p:cNvPicPr/>
          <p:nvPr/>
        </p:nvPicPr>
        <p:blipFill>
          <a:blip r:embed="rId1"/>
          <a:stretch/>
        </p:blipFill>
        <p:spPr>
          <a:xfrm>
            <a:off x="826920" y="2349360"/>
            <a:ext cx="3770640" cy="3959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160inducedipole"/>
          <p:cNvPicPr/>
          <p:nvPr/>
        </p:nvPicPr>
        <p:blipFill>
          <a:blip r:embed="rId2"/>
          <a:stretch/>
        </p:blipFill>
        <p:spPr>
          <a:xfrm>
            <a:off x="4788000" y="2349360"/>
            <a:ext cx="37018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sconcep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sual – Spatial &amp; Kinesthetic learners may have difficul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solution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s could be addressed by using hands-on laboratories, role-play skits and moving around activiti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dents will have difficulties with abstract idea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solution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iew videos, demonstrations, 3d model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ecial needs and Exceptional learn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solution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just and modify lessons according to IEP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2" name="Picture 4" descr="C:\Documents and Settings\pisanpet\Local Settings\Temporary Internet Files\Content.IE5\WS8AY8H6\MC900078714[1].wmf"/>
          <p:cNvPicPr/>
          <p:nvPr/>
        </p:nvPicPr>
        <p:blipFill>
          <a:blip r:embed="rId1"/>
          <a:stretch/>
        </p:blipFill>
        <p:spPr>
          <a:xfrm>
            <a:off x="5219640" y="115920"/>
            <a:ext cx="1368360" cy="1512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C:\Documents and Settings\pisanpet\Local Settings\Temporary Internet Files\Content.IE5\GBNYJVLT\MC900078743[1].wmf"/>
          <p:cNvPicPr/>
          <p:nvPr/>
        </p:nvPicPr>
        <p:blipFill>
          <a:blip r:embed="rId2"/>
          <a:stretch/>
        </p:blipFill>
        <p:spPr>
          <a:xfrm>
            <a:off x="468360" y="3284640"/>
            <a:ext cx="753840" cy="865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C:\Documents and Settings\pisanpet\Local Settings\Temporary Internet Files\Content.IE5\GBNYJVLT\MC900078743[1].wmf"/>
          <p:cNvPicPr/>
          <p:nvPr/>
        </p:nvPicPr>
        <p:blipFill>
          <a:blip r:embed="rId3"/>
          <a:stretch/>
        </p:blipFill>
        <p:spPr>
          <a:xfrm>
            <a:off x="539640" y="4869000"/>
            <a:ext cx="755640" cy="863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C:\Documents and Settings\pisanpet\Local Settings\Temporary Internet Files\Content.IE5\GBNYJVLT\MC900078743[1].wmf"/>
          <p:cNvPicPr/>
          <p:nvPr/>
        </p:nvPicPr>
        <p:blipFill>
          <a:blip r:embed="rId4"/>
          <a:stretch/>
        </p:blipFill>
        <p:spPr>
          <a:xfrm>
            <a:off x="468360" y="5994360"/>
            <a:ext cx="7538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) Hydrogen Bonding UR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</a:rPr>
              <a:t>http://bioactive.mrkirkscience.com/02/ch2c4.h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) Ionic vs. Covalent Bond video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</a:rPr>
              <a:t>http://www.youtube.com/watch?v=QqjcCvzWwww&amp;NR=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3)Ministry Documen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</a:rPr>
              <a:t>http://www.ed.gov.nl.ca/edu/k12/curriculum/guides/science/chem2202/unit2.pdf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</a:rPr>
              <a:t>http://www.edu.gov.on.ca/eng/curriculum/secondary/2009science11_12.pdf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</a:rPr>
              <a:t>http://www.angelo.edu/faculty/kboudrea/index/Notes_Chapter_11.pdf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4)Haberer et. al. 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Chemistry 11.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Nelson Education. 2011.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5)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</a:rPr>
              <a:t> CSI to engage the students and prepare them for the lab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</a:rPr>
              <a:t>http://www.youtube.com/watch?v=3NzgPNpQkno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7432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ank you for taking the time to view our presentation!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ening Activity-What do you already know about Chemical Bonding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hink-Pair Shar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ooperative Learning Activity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 a blank piece of paper, write down 5 key concepts that you remember about Chemical Bonding. Share and compare your points with a partne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valent Bonds vs. Ionic Bon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26920" y="2420640"/>
            <a:ext cx="377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w that we have your brain exercised on this topic, look at the picture below and see if you remember the difference between a covalent bond and an ionic bon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4" descr="slides59"/>
          <p:cNvPicPr/>
          <p:nvPr/>
        </p:nvPicPr>
        <p:blipFill>
          <a:blip r:embed="rId1"/>
          <a:stretch/>
        </p:blipFill>
        <p:spPr>
          <a:xfrm>
            <a:off x="4716360" y="2421000"/>
            <a:ext cx="442764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ave a look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re’s a catchy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music vide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o help stimulate your memory and prior knowledge of chemical bonding….ENJOY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youtube.com/watch?v=oNBzyM6TcK8&amp;feature=rela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* </a:t>
            </a:r>
            <a:r>
              <a:rPr b="1" lang="en-US" sz="1600" spc="-1" strike="noStrike">
                <a:solidFill>
                  <a:srgbClr val="33cccc"/>
                </a:solidFill>
                <a:latin typeface="Arial"/>
              </a:rPr>
              <a:t>Hint: This would be an excellent hook to any lesson on chemical bondin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re we go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Picture 8" descr="Royalty-Free (RF) Scientist Clipart Illustration by Geo Images - Stock Sample #1136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97640" y="2492280"/>
            <a:ext cx="3546360" cy="372420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10"/>
          <p:cNvSpPr/>
          <p:nvPr/>
        </p:nvSpPr>
        <p:spPr>
          <a:xfrm>
            <a:off x="900000" y="2492280"/>
            <a:ext cx="3384720" cy="2592360"/>
          </a:xfrm>
          <a:prstGeom prst="wedgeRoundRectCallout">
            <a:avLst>
              <a:gd name="adj1" fmla="val 67259"/>
              <a:gd name="adj2" fmla="val -8115"/>
              <a:gd name="adj3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187280" y="2852640"/>
            <a:ext cx="28083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ow that you are OFFICIALLY ready, lets explore our topic today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MOLECULAR FORCES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verall Expect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1. analyse the properties of commonly used chemical substances and their effects on human health and the environment, and propose ways to lessen their impac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2. investigate physical and chemical properties of elements and compounds, and use various methods to visually represent them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3. demonstrate an understanding of periodic trends in the periodic table and how elements combine to form chemical bond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re is our Lesson Sequence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ext series of slides explores 5 lessons with supplemental material to assist you in Teaching the following topic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Molecular Compounds and Intermolecular For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10" descr="Structure_of_Wat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2421000"/>
            <a:ext cx="403236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*Not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*   Please review our Summary Handout along with the next few slides for a more detailed outline of our Lesson sequence </a:t>
            </a:r>
            <a:r>
              <a:rPr b="0" lang="en-US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8" descr="Structure_of_Water"/>
          <p:cNvPicPr/>
          <p:nvPr/>
        </p:nvPicPr>
        <p:blipFill>
          <a:blip r:embed="rId1"/>
          <a:stretch/>
        </p:blipFill>
        <p:spPr>
          <a:xfrm>
            <a:off x="4643280" y="2421000"/>
            <a:ext cx="432144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sson 1: Super Hero Bon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) Students given cards with specific molecule &amp; 3 Diagnostic Qs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see summary handouts for details)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) Milling to music to discuss their answ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) Students develop characters and create ski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Super Hero Covalent Bond Man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&amp;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Super Hero Ionic Bond Woman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What are your powers &amp; strengths?   What are your weaknesses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)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presentation of skits to the class and watch video 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youtube.com/watch?v=QqjcCvzWwww&amp;NR=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4" descr="C:\Documents and Settings\pisanpet\Local Settings\Temporary Internet Files\Content.IE5\GBNYJVLT\MC900237863[1].wmf"/>
          <p:cNvPicPr/>
          <p:nvPr/>
        </p:nvPicPr>
        <p:blipFill>
          <a:blip r:embed="rId2"/>
          <a:stretch/>
        </p:blipFill>
        <p:spPr>
          <a:xfrm>
            <a:off x="6227640" y="2708280"/>
            <a:ext cx="1657440" cy="649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C:\Documents and Settings\pisanpet\Local Settings\Temporary Internet Files\Content.IE5\P9OV6DIH\MC900433233[1].jpg"/>
          <p:cNvPicPr/>
          <p:nvPr/>
        </p:nvPicPr>
        <p:blipFill>
          <a:blip r:embed="rId3"/>
          <a:stretch/>
        </p:blipFill>
        <p:spPr>
          <a:xfrm>
            <a:off x="2556000" y="4292640"/>
            <a:ext cx="1511280" cy="115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C:\Documents and Settings\pisanpet\Local Settings\Temporary Internet Files\Content.IE5\P9OV6DIH\MC900383258[1].wmf"/>
          <p:cNvPicPr/>
          <p:nvPr/>
        </p:nvPicPr>
        <p:blipFill>
          <a:blip r:embed="rId4"/>
          <a:stretch/>
        </p:blipFill>
        <p:spPr>
          <a:xfrm>
            <a:off x="6443640" y="4221000"/>
            <a:ext cx="17985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18:51:42Z</dcterms:created>
  <dc:creator> </dc:creator>
  <dc:description/>
  <dc:language>en-US</dc:language>
  <cp:lastModifiedBy> </cp:lastModifiedBy>
  <dcterms:modified xsi:type="dcterms:W3CDTF">2011-07-14T04:35:02Z</dcterms:modified>
  <cp:revision>51</cp:revision>
  <dc:subject/>
  <dc:title>Molecular Compounds &amp; Intermolecular Forces</dc:title>
</cp:coreProperties>
</file>